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241-E431-4CD0-99CC-2A31AF64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DFD-AE43-4A92-A56C-C6E0266A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6A3-AD1C-478E-BAD4-26DDD46B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3BA-87ED-4286-A78D-27EC556D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C0D7-EE46-43DA-87EB-ABD646A2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2314-DDA5-4967-A7FA-78B68CC2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F821-6F86-44D5-B954-62C9BA11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B525-49CE-4BCE-8F9C-17DEE07E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AC47-609D-4721-8D2E-D495B376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A927-C07C-495F-8333-CA6CABED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65DF-E791-4E82-A394-5AD5DD26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31E9-549C-4BE1-B976-0DB1AAC9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F6A6-9B90-4A95-92EC-E816FB37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9BBE-36CE-42CC-889A-3336DDA2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C986-05E8-437A-A6B2-F597F140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5888-A587-4619-BAB7-01537790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B886-489B-4870-B213-B0852D9B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D3A66-56D2-4748-996F-9B1D9562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4E021-507F-4029-837B-61DAD762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B74CF-8432-49EB-A092-43386970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49D8E-CDDD-44F7-B452-D85E1F68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95E8B-CE1F-4EA6-A8AD-75718BF9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EAE-ADFC-4EA5-8141-15BF2384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FFB6A-4F9F-4A22-875E-37C6EAA1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26D43-A538-4DFB-87E6-BC448C80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D8B2-534F-49D7-B003-2AFD48F2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F861E-20F7-4188-BAF6-F2CA4C89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F3E94-B24E-40B2-93A1-F2B3692F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7108-F83C-424D-AB5D-4BABF4A8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602E9-2FDA-4943-B6EA-2232DB04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BD403-0BD4-4C8E-827D-63AB5640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BC899-3A2B-4A44-9705-3E2961A3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1602E-62CC-4F7D-A355-60A9FC1D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4AF-70CC-4B3D-9A6E-239262F6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657D4-D59B-42D0-BEFF-2A0559AF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7FC4F-BD26-4055-A791-449527FE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C1856-F8F4-4374-ADE6-460D9560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54DAD-0384-4E27-B385-ADF0BEF1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A21A6-F162-4754-B750-18DDC51A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B5A85-0914-430E-8275-87A87EDD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12967-2C7D-41C8-B8C9-748E60DC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EC3F4-11C5-4B90-B14B-8D54D391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D183B-D039-45DC-B420-5EF3BFFC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2A854-85B4-4C78-B7A8-DAE5A1FC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BE2-D974-43B5-A927-E2BCE385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07BC5-0C9C-44BB-8DBE-F6530C5B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2C7EF-197C-435E-89AB-A04A8B07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515FD-F5E0-4224-80DF-0E2EF9EA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62D99-8C84-4288-8ABF-DF720C0C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852D2-30A6-4854-8979-7F597304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6C694-CC90-4CE7-8867-21E49EA6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630CD-1A47-4BBB-A8E2-E3A583F6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2BB08-E157-48CB-8A85-FCD3D748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312CB-47B8-41DD-8B50-E324FE31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79A5E-F6DE-4588-93A1-5742FF75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727-F3F2-4198-90C0-0148191E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F1F55-95FB-4FE7-AB93-C0343FD5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1848E-9EC5-453A-9D7E-C308C113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0478-8329-46EF-8AE6-8DC46D7D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1E453-A10B-4844-9004-AE124888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D17F6-8921-4ECE-8F6A-61DF9B7B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7EE43-C5E3-4850-9A11-C91404BF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C2310-F1A4-4773-998C-12950478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8972E-9000-4EAE-B79A-F4C9AA2D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43C6F-A6A6-4E50-BA7A-8899A323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FA983-47F8-446A-947E-F7018698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A936-D5A3-4347-9C9E-6A82E575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A75B3-2139-4B99-A9AE-5B7210CD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3601D-B23E-46E0-A42D-124284C0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56D06-BF57-4574-BAA1-83F84FD2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7E8FF-CBA4-4192-AF14-AC9F5B93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7D4EA-75E2-4F8B-8143-FD7F85D6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45150-2877-4F36-8B5E-585C37CC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96959-0529-4370-A151-9C56E4BF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7F3DA-3E50-47A3-A68D-52233C4E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0D54E-A846-425F-8CF0-B492BB01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06C8B-2203-41E9-9A4C-1447BDF3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9AA-7138-492B-B167-7273FA5A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FCCEF-98AA-468B-9B16-EC4DD6E5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D9121-D369-42C9-87BC-E24CA8A9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E03C6-9E33-4E3F-A5AC-037C6C1C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1C134-F25B-408A-B784-32702DDD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42C23-FA4F-4A99-8B6C-B6412228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C2C-0B84-4230-927F-A5B4994E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FFB6-6D12-41B1-8E2E-B9EB31BE2A3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6C6E-5AF7-4A5B-9E58-57FD455DE06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26DF-C28E-4091-8C76-F05B79367E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7482-73C9-45A3-82ED-541915A1E8E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A0FD-05F5-4169-ABA6-59FE2DB72CF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3981-EAA8-4CCB-A486-C8BE1F5B72C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4F9F-CD43-4379-B39B-0C2E9008D84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571560" y="1356840"/>
            <a:ext cx="492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Когда появилась функция</a:t>
            </a:r>
            <a:r>
              <a:rPr b="1" lang="en-US" sz="8000" spc="-1" strike="noStrike">
                <a:solidFill>
                  <a:srgbClr val="ff0000"/>
                </a:solidFill>
                <a:latin typeface="Monotype Corsiv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Рисунок 3" descr="texto_parabola-do-filho-prodigofontemonotypecorsiva.jpg"/>
          <p:cNvPicPr/>
          <p:nvPr/>
        </p:nvPicPr>
        <p:blipFill>
          <a:blip r:embed="rId2"/>
          <a:stretch/>
        </p:blipFill>
        <p:spPr>
          <a:xfrm>
            <a:off x="1000080" y="285840"/>
            <a:ext cx="25718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285560" y="2138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уть к появлению понятия функ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ложили в 17 веке французские уче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рансуа Виет и Рене Декарт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C:\Documents and Settings\Admin\Рабочий стол\ИКТО\Декарт.jpg"/>
          <p:cNvPicPr/>
          <p:nvPr/>
        </p:nvPicPr>
        <p:blipFill>
          <a:blip r:embed="rId2"/>
          <a:stretch/>
        </p:blipFill>
        <p:spPr>
          <a:xfrm>
            <a:off x="5643720" y="1857240"/>
            <a:ext cx="2214360" cy="2571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Documents and Settings\Admin\Рабочий стол\ИКТО\1ANKEACA2SYPQ1CA3JDTDBCAOM5ABDCAVBW4R6CA6ZX5P8CADN3JECCATXGS7YCA0H7OFTCA0XXKZKCAG3L037CAR4I9ACCARCXM5JCAI1ZTKACA3NAEJ2CAZEWZ38CA3T0OJ7CAGC337ZCAM3A47PCAGIVVHM.jpg"/>
          <p:cNvPicPr/>
          <p:nvPr/>
        </p:nvPicPr>
        <p:blipFill>
          <a:blip r:embed="rId3"/>
          <a:stretch/>
        </p:blipFill>
        <p:spPr>
          <a:xfrm>
            <a:off x="2214720" y="1857240"/>
            <a:ext cx="2143080" cy="3041640"/>
          </a:xfrm>
          <a:prstGeom prst="rect">
            <a:avLst/>
          </a:prstGeom>
          <a:ln w="0">
            <a:noFill/>
          </a:ln>
        </p:spPr>
      </p:pic>
      <p:sp>
        <p:nvSpPr>
          <p:cNvPr id="323" name="TextBox 5"/>
          <p:cNvSpPr/>
          <p:nvPr/>
        </p:nvSpPr>
        <p:spPr>
          <a:xfrm>
            <a:off x="681120" y="4786200"/>
            <a:ext cx="82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ни разработали единую буквен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тематическую символику, кото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скоре получила всеобщее призн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6"/>
          <p:cNvSpPr/>
          <p:nvPr/>
        </p:nvSpPr>
        <p:spPr>
          <a:xfrm>
            <a:off x="2000160" y="414324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рансуа Ви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7"/>
          <p:cNvSpPr/>
          <p:nvPr/>
        </p:nvSpPr>
        <p:spPr>
          <a:xfrm>
            <a:off x="5533200" y="4429080"/>
            <a:ext cx="24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ене Де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071600" y="285840"/>
            <a:ext cx="48625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амо слово </a:t>
            </a:r>
            <a:r>
              <a:rPr b="0" lang="ru-RU" sz="3000" spc="-1" strike="noStrike">
                <a:solidFill>
                  <a:srgbClr val="7030a0"/>
                </a:solidFill>
                <a:latin typeface="Corbel"/>
              </a:rPr>
              <a:t>“функция”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первые было  употреблено немецким математиком Лейбницем в 1673г. в письме к Гюйгенсу (Лейбниц употреблял функцию в смысле роли(величина, выполняющая ту или иную функцию)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3" descr="C:\Documents and Settings\Admin\Рабочий стол\ИКТО\Лейб.jpg"/>
          <p:cNvPicPr/>
          <p:nvPr/>
        </p:nvPicPr>
        <p:blipFill>
          <a:blip r:embed="rId2"/>
          <a:stretch/>
        </p:blipFill>
        <p:spPr>
          <a:xfrm>
            <a:off x="974880" y="334800"/>
            <a:ext cx="2974680" cy="3835440"/>
          </a:xfrm>
          <a:prstGeom prst="rect">
            <a:avLst/>
          </a:prstGeom>
          <a:ln w="0">
            <a:noFill/>
          </a:ln>
        </p:spPr>
      </p:pic>
      <p:sp>
        <p:nvSpPr>
          <p:cNvPr id="328" name="TextBox 20"/>
          <p:cNvSpPr/>
          <p:nvPr/>
        </p:nvSpPr>
        <p:spPr>
          <a:xfrm>
            <a:off x="1571760" y="414324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Лейб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C:\Documents and Settings\Admin\Рабочий стол\ИКТО\Гюйгенс.jpg"/>
          <p:cNvPicPr/>
          <p:nvPr/>
        </p:nvPicPr>
        <p:blipFill>
          <a:blip r:embed="rId3"/>
          <a:stretch/>
        </p:blipFill>
        <p:spPr>
          <a:xfrm>
            <a:off x="6456240" y="3749760"/>
            <a:ext cx="2590920" cy="30049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24"/>
          <p:cNvSpPr/>
          <p:nvPr/>
        </p:nvSpPr>
        <p:spPr>
          <a:xfrm>
            <a:off x="7072200" y="6357960"/>
            <a:ext cx="149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юйге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5:57:42Z</dcterms:created>
  <dc:creator>Игорь</dc:creator>
  <dc:description/>
  <dc:language>en-US</dc:language>
  <cp:lastModifiedBy>TIGROID</cp:lastModifiedBy>
  <dcterms:modified xsi:type="dcterms:W3CDTF">2010-06-03T12:49:51Z</dcterms:modified>
  <cp:revision>30</cp:revision>
  <dc:subject/>
  <dc:title>Слайд 1</dc:title>
</cp:coreProperties>
</file>